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4C984-F983-4A45-BA41-310148930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16168-9090-4F60-A6FB-3A2915057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D8215-F0F0-4D4C-8B06-38A4AF51E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E3427-C8BC-4706-B332-25535F5E6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63F8A-0203-419B-959E-4944790D7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12B62-9238-41B1-A9FD-CA9B2D58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D2DD0-71C2-4849-B7D3-B10B214D8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41E5-4DF1-429B-B3CF-9C690EF4E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1D8F0-C056-4795-A863-1E1757A5D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11713-9926-44EC-8E07-7FEA0C82E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547C4-5C8E-465C-B0F4-C4C193DF0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8E51-020E-4774-9708-D0126A835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EBC4-CA2E-49D7-AE6F-924B8589E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563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3200" spc="-1" strike="noStrike">
                <a:solidFill>
                  <a:srgbClr val="000000"/>
                </a:solidFill>
                <a:latin typeface="Times New Roman"/>
                <a:ea typeface="Simplified Arabic"/>
              </a:rPr>
              <a:t>(متى: </a:t>
            </a:r>
            <a:r>
              <a:rPr b="0" lang="ar-SA" sz="3200" spc="-1" strike="noStrike">
                <a:solidFill>
                  <a:srgbClr val="000000"/>
                </a:solidFill>
                <a:latin typeface="Times New Roman"/>
                <a:ea typeface="Simplified Arabic"/>
              </a:rPr>
              <a:t>10/38</a:t>
            </a:r>
            <a:r>
              <a:rPr b="0" lang="ar-SA" sz="3200" spc="-1" strike="noStrike">
                <a:solidFill>
                  <a:srgbClr val="000000"/>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8"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9"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10188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10"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st11"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st12"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st13"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9334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st14"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mary%20sad"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Simplified Arabic"/>
              </a:rPr>
              <a:t>    </a:t>
            </a:r>
            <a:r>
              <a:rPr b="1" lang="en-US" sz="4000" spc="-1" strike="noStrike">
                <a:solidFill>
                  <a:srgbClr val="000000"/>
                </a:solidFill>
                <a:latin typeface="Times New Roman"/>
                <a:ea typeface="Simplified Arabic"/>
              </a:rPr>
              <a:t> </a:t>
            </a:r>
            <a:r>
              <a:rPr b="1" lang="ar-SA" sz="4000" spc="-1" strike="noStrike">
                <a:solidFill>
                  <a:srgbClr val="ffffcc"/>
                </a:solidFill>
                <a:latin typeface="Times New Roman"/>
                <a:cs typeface="Simplified Arabic"/>
              </a:rPr>
              <a:t>مريمُ الأمُ الحزينة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لبتولةُ الأمينة</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يا شريكةَ الفداءِ</a:t>
            </a:r>
            <a:r>
              <a:rPr b="1" lang="ar-SA"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أُمَنا أُمَّ العزاءِ</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علّمينا أن نت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8550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2"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3"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4"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5"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6"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SUZANNE.MD</cp:lastModifiedBy>
  <dcterms:modified xsi:type="dcterms:W3CDTF">2003-04-03T09:18:20Z</dcterms:modified>
  <cp:revision>1</cp:revision>
  <dc:subject/>
  <dc:title>PowerPoint Presentation</dc:title>
</cp:coreProperties>
</file>